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839-4A46-4BDC-8D54-E0D4689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D9D-955B-4DD5-9292-D721D88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B00-F504-4684-9CFC-F3BC01BF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406-AB1B-4AAA-BEC1-E2B58728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18B-A237-4BA7-809B-EA6A5F7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C4-BA40-45A0-82ED-BE7F411B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23E-B632-4B0A-B541-A437A8BB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EFD-2170-4EA6-92F0-146AF863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993-6996-4CAD-9608-A7340E8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F3F-5B1D-4B41-BE3B-8681283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331-FEB3-4442-BD18-C1A325B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ADC-7CB0-483B-8F99-2F0B127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195-90A6-4E4A-A4DD-E86EB4D57C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KM (M&amp;E, Information &amp; Communic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munication and docum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gress so f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227640" y="55897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Septem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765000"/>
          <a:ext cx="8434080" cy="6131160"/>
        </p:xfrm>
        <a:graphic>
          <a:graphicData uri="http://schemas.openxmlformats.org/drawingml/2006/table">
            <a:tbl>
              <a:tblPr/>
              <a:tblGrid>
                <a:gridCol w="1882800"/>
                <a:gridCol w="3589200"/>
                <a:gridCol w="296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hie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-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repackaging of Phase 1 Materi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 1 outputs on Cg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logue posters finalized and will be on website so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book being final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outcomes stories being final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BDC Com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en supporting Volta 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initiative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kong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cing global deb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campaign at WW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CONDESAN on Rio+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W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AR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tions and produ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WP paper comple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riefing notes in the pipeline and being worked 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WF Synthesis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highlights co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film story in Nile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videos, gender sto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s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report being final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osters produ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lines to be updated based on WLE br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ly up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design und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e-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transferred to W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WF Community to be transferr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ajor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280" y="1125360"/>
            <a:ext cx="84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messages now we need examples around these messages from pro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some left over funding for Basins Comms to take advantage of for videos or gender stories. Are people willing/interested to get something done by end of 201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ies to document and demonstrate what we are doing through WLE. We can take a lead in showing what partnerships, impact is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ritical gap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difficult to get research highlights and stories from the basins. How can we improve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science based materials from our research is imper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begin to say about the basins or areas we work in? What have we done? What research insights or impacts have we h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we create a series on impacts or research insights using infographics, video and other alternatives med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stay motivated and communicate more regularly toge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6:47:18Z</dcterms:created>
  <dc:creator>eleborgne</dc:creator>
  <dc:description/>
  <dc:language>en-US</dc:language>
  <cp:lastModifiedBy>Michael Victor</cp:lastModifiedBy>
  <dcterms:modified xsi:type="dcterms:W3CDTF">2012-09-10T09:08:27Z</dcterms:modified>
  <cp:revision>6</cp:revision>
  <dc:subject/>
  <dc:title>CPWF phase 2</dc:title>
</cp:coreProperties>
</file>